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D08-0FB9-4598-AFDA-9289C7ED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8DF-690B-4B6A-AD10-A97AA989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6D7-31A1-411D-A50D-8A430882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06C-CD3B-44F6-8380-D75E235D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763-6202-4998-ACEA-F9D4F4AF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C28-DFD8-4FA5-A557-54A2D639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803-C58B-45AA-9C9F-429A7F1B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863-3920-45AE-8BAC-113776CC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DB1-AC2C-409F-9969-2B7B0B70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B90-7AF4-40D1-A4F4-7BE828C8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9F9-983B-4272-A06F-128702C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A2C-B4DF-416E-8285-BF6EA135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4DB-62DB-4041-A649-A567055CD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76360" y="1108080"/>
            <a:ext cx="7488360" cy="5616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44360" y="189000"/>
            <a:ext cx="6948720" cy="3445560"/>
          </a:xfrm>
          <a:prstGeom prst="rect">
            <a:avLst/>
          </a:prstGeom>
          <a:solidFill>
            <a:srgbClr val="000066">
              <a:alpha val="47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Помни, че ти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не случай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си роден на таз' з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и че да диш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сам не си реш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927000"/>
            <a:ext cx="7777080" cy="57722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788000" y="2205000"/>
            <a:ext cx="1944720" cy="10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97440" y="115920"/>
            <a:ext cx="4211640" cy="5456520"/>
          </a:xfrm>
          <a:prstGeom prst="rect">
            <a:avLst/>
          </a:prstGeom>
          <a:solidFill>
            <a:srgbClr val="000066">
              <a:alpha val="47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В сърцето 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Бог лю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горещ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чудна сътв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сега на друг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я занес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32000" y="1000080"/>
            <a:ext cx="7812000" cy="58579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08000" y="123840"/>
            <a:ext cx="5364000" cy="4786200"/>
          </a:xfrm>
          <a:prstGeom prst="rect">
            <a:avLst/>
          </a:prstGeom>
          <a:solidFill>
            <a:srgbClr val="000000">
              <a:alpha val="44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Ти си жела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а не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случайнос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не прищявка неч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все едно къ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живееш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и 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рудиш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по св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360" y="981000"/>
            <a:ext cx="7812360" cy="5859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755640" y="1773360"/>
            <a:ext cx="4248000" cy="647640"/>
          </a:xfrm>
          <a:prstGeom prst="rect">
            <a:avLst/>
          </a:prstGeom>
          <a:solidFill>
            <a:srgbClr val="25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103320"/>
            <a:ext cx="5283360" cy="5456520"/>
          </a:xfrm>
          <a:prstGeom prst="rect">
            <a:avLst/>
          </a:prstGeom>
          <a:solidFill>
            <a:srgbClr val="000066">
              <a:alpha val="47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Ти си мисъл произляз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горе там от небес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ти си 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за Бога скъп с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много скъп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ова си 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79280" y="1574640"/>
            <a:ext cx="6769080" cy="5075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140360" y="146160"/>
            <a:ext cx="4897440" cy="5456520"/>
          </a:xfrm>
          <a:prstGeom prst="rect">
            <a:avLst/>
          </a:prstGeom>
          <a:solidFill>
            <a:srgbClr val="000066">
              <a:alpha val="47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Помни и зна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че животът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за теб го е реш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и дишането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с обич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подар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7488360" cy="5616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411280" y="2276640"/>
            <a:ext cx="287640" cy="4032000"/>
          </a:xfrm>
          <a:prstGeom prst="rect">
            <a:avLst/>
          </a:prstGeom>
          <a:solidFill>
            <a:srgbClr val="f9c36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8200" y="5157720"/>
            <a:ext cx="2665080" cy="720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115920"/>
            <a:ext cx="5364000" cy="4786200"/>
          </a:xfrm>
          <a:prstGeom prst="rect">
            <a:avLst/>
          </a:prstGeom>
          <a:solidFill>
            <a:srgbClr val="000000">
              <a:alpha val="44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Ти си жела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а не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случайнос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не прищявка неч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все едно къ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живееш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и 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рудиш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по св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966960"/>
            <a:ext cx="7201080" cy="5759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753000" y="174600"/>
            <a:ext cx="5283000" cy="5456520"/>
          </a:xfrm>
          <a:prstGeom prst="rect">
            <a:avLst/>
          </a:prstGeom>
          <a:solidFill>
            <a:srgbClr val="000066">
              <a:alpha val="47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Ти си мисъл произляз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горе там от небес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ти си 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за Бога скъп с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много скъп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ова си 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030320"/>
            <a:ext cx="7343640" cy="5648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79280" y="189000"/>
            <a:ext cx="4824360" cy="5456520"/>
          </a:xfrm>
          <a:prstGeom prst="rect">
            <a:avLst/>
          </a:prstGeom>
          <a:solidFill>
            <a:srgbClr val="000066">
              <a:alpha val="48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Помни, че ту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никой 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не е напъл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като т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нито във мисл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нито в чувства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617840"/>
            <a:ext cx="6769080" cy="50781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219640" y="5589720"/>
            <a:ext cx="2448000" cy="647640"/>
          </a:xfrm>
          <a:prstGeom prst="rect">
            <a:avLst/>
          </a:prstGeom>
          <a:solidFill>
            <a:srgbClr val="230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74520"/>
            <a:ext cx="6011640" cy="4115880"/>
          </a:xfrm>
          <a:prstGeom prst="rect">
            <a:avLst/>
          </a:prstGeom>
          <a:solidFill>
            <a:srgbClr val="000066">
              <a:alpha val="47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Помни дори, че неб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само в твоите 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добива смисъ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скъп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неповтор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19280" y="1160640"/>
            <a:ext cx="7345440" cy="5508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2411280" y="2276640"/>
            <a:ext cx="287640" cy="4032000"/>
          </a:xfrm>
          <a:prstGeom prst="rect">
            <a:avLst/>
          </a:prstGeom>
          <a:solidFill>
            <a:srgbClr val="f9c36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8200" y="5157720"/>
            <a:ext cx="2665080" cy="720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89000"/>
            <a:ext cx="5364360" cy="4786200"/>
          </a:xfrm>
          <a:prstGeom prst="rect">
            <a:avLst/>
          </a:prstGeom>
          <a:solidFill>
            <a:srgbClr val="000000">
              <a:alpha val="44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Ти си жела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а не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случайнос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не прищявка неч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все едно къ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живееш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и 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рудиш</a:t>
            </a: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по св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023840"/>
            <a:ext cx="7129440" cy="5702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753000" y="174600"/>
            <a:ext cx="5283000" cy="5456520"/>
          </a:xfrm>
          <a:prstGeom prst="rect">
            <a:avLst/>
          </a:prstGeom>
          <a:solidFill>
            <a:srgbClr val="000066">
              <a:alpha val="47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Ти си мисъл произляз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горе там от небес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ти си 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за Бога скъп с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много скъп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_Albionic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ова си 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1071720"/>
            <a:ext cx="7559640" cy="5670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79280" y="189000"/>
            <a:ext cx="4321440" cy="4786200"/>
          </a:xfrm>
          <a:prstGeom prst="rect">
            <a:avLst/>
          </a:prstGeom>
          <a:solidFill>
            <a:srgbClr val="000066">
              <a:alpha val="48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Помни, че и никой ня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като твоите 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_Albionic"/>
              </a:rPr>
              <a:t>и че без тебе някой ще тъж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16:45Z</dcterms:created>
  <dc:creator>TrifonTrifonow</dc:creator>
  <dc:description/>
  <dc:language>en-US</dc:language>
  <cp:lastModifiedBy>TrifonTrifonow</cp:lastModifiedBy>
  <dcterms:modified xsi:type="dcterms:W3CDTF">2005-12-15T20:17:16Z</dcterms:modified>
  <cp:revision>1</cp:revision>
  <dc:subject/>
  <dc:title>Slide 1</dc:title>
</cp:coreProperties>
</file>